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CC0-E6C9-44A9-A48C-B3CBF10C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634-18F7-4CA6-BB7E-328697C7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DC9-CFBC-4BBF-B44A-59D03A04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925-CC51-4155-BF2D-6D1C19BD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EA2D-C79C-42CC-A23D-3051042E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7E1A-C063-47EC-BD47-DBEFC448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CE14-9AD8-49F2-9D77-D3E3405C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FC37-E881-4039-BAC7-96FE112F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CBCA-AF28-4208-A3AA-86739E6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C3C0-B157-4BA9-816C-D7853B71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A82C-53A9-40E3-AE79-003371A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E62-E406-42BE-84E5-E0B4E0A7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D4F4-8E7D-4AD1-8BB5-4617676E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9EFF-02BC-4EAA-BA86-3C3D9C5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AA81-388B-43B6-8179-0E57B2E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FFF6-4F3E-4D8B-849A-8D0329EE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66F3-1F2A-41C5-9A38-CF8287CF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449-4503-4482-995A-8B64CFE4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7B9-CCBA-480E-A61E-EC82CB9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E20-E28E-48DB-8236-E5BE993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366-85C6-4368-B32B-1A2DAB08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FC0-C017-453F-A35F-A1E4FD3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AD7-81BE-4F15-A78C-C3B4947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501-E71C-4280-BE54-F7B3D54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873F-CD77-40C9-88DB-75CE862BA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FD9D-EF2B-40E5-A624-32E2C5F5D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fzibran@ucalgary.ca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2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Information Technologies</cp:lastModifiedBy>
  <dcterms:modified xsi:type="dcterms:W3CDTF">2009-01-19T19:14:10Z</dcterms:modified>
  <cp:revision>19</cp:revision>
  <dc:subject/>
  <dc:title>CPSC 203 Tutorial Section: T32</dc:title>
</cp:coreProperties>
</file>